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861-1059-4982-A044-A5E44B10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3E5-2BEC-4B5B-92F8-400F2150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914-8D2A-4F88-9380-2D3AB500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1C5-C316-4C5C-92CE-64D56163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4B8-CA58-49FF-871B-61A602BA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DBB-1278-47B9-9AAA-09292564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2F5-89F9-4ACC-B507-DA7EAF3B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3BF-2363-44BA-A997-007A8AAC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185-53C4-4D5E-9FE4-DC2F69AB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FAD-BF6F-4BEE-A6CE-F8B941DD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557-481A-4C43-B9B3-5277B528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506-E0E8-4878-B8FA-49E9B724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16B4-B05D-4692-91F0-AF02CF32DF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olving System of Equations with 3 Variables by Elimi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62120" y="33526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 – 2y + 3z =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x – y – 2z  =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x + 2y – z =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olve by Elimi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42840" y="1295280"/>
            <a:ext cx="350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– 2y + 3z =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2x – y – 2z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x + 2y – z =  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Content Placeholder 2"/>
          <p:cNvSpPr/>
          <p:nvPr/>
        </p:nvSpPr>
        <p:spPr>
          <a:xfrm>
            <a:off x="304920" y="2362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-2( x – 2y + 3z = 1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5867280" y="2362320"/>
            <a:ext cx="2667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-(2x – y – 2z = 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609480" y="27432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-2x + 4y – 6z = -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6324480" y="27432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-2x + y + 2z = -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457200" y="30481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x –   y – 2z = 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6248520" y="3048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2x + 2y – z =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traight Connector 14"/>
          <p:cNvSpPr/>
          <p:nvPr/>
        </p:nvSpPr>
        <p:spPr>
          <a:xfrm>
            <a:off x="457200" y="3429000"/>
            <a:ext cx="23623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1219320" y="350532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3y – 8z = -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Straight Connector 16"/>
          <p:cNvSpPr/>
          <p:nvPr/>
        </p:nvSpPr>
        <p:spPr>
          <a:xfrm>
            <a:off x="6248520" y="3429000"/>
            <a:ext cx="236196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3657600" y="42670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  3y + z =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3581280" y="365760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-(3y – 8z = -1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Content Placeholder 2"/>
          <p:cNvSpPr/>
          <p:nvPr/>
        </p:nvSpPr>
        <p:spPr>
          <a:xfrm>
            <a:off x="7086600" y="35053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3y + z =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3657600" y="39625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-3y + 8z = 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Straight Connector 22"/>
          <p:cNvSpPr/>
          <p:nvPr/>
        </p:nvSpPr>
        <p:spPr>
          <a:xfrm>
            <a:off x="3276720" y="4648320"/>
            <a:ext cx="236196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Content Placeholder 2"/>
          <p:cNvSpPr/>
          <p:nvPr/>
        </p:nvSpPr>
        <p:spPr>
          <a:xfrm>
            <a:off x="4191120" y="47242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9z = 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343400" y="5105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z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609480" y="4495680"/>
            <a:ext cx="1828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030a0"/>
                </a:solidFill>
                <a:latin typeface="Arial"/>
              </a:rPr>
              <a:t>3y – 8(</a:t>
            </a:r>
            <a:r>
              <a:rPr b="1" lang="en-US" sz="1900" spc="-1" strike="noStrike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7030a0"/>
                </a:solidFill>
                <a:latin typeface="Arial"/>
              </a:rPr>
              <a:t>) = -19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Content Placeholder 2"/>
          <p:cNvSpPr/>
          <p:nvPr/>
        </p:nvSpPr>
        <p:spPr>
          <a:xfrm>
            <a:off x="1295280" y="487692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3y = -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1447920" y="52578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y =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6248520" y="4495680"/>
            <a:ext cx="2590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x – 2(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-1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) + 3(</a:t>
            </a:r>
            <a:r>
              <a:rPr b="1" lang="en-US" sz="2200" spc="-1" strike="noStrike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) = 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6553080" y="4876920"/>
            <a:ext cx="2438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x – (-2) + 6 = 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Content Placeholder 2"/>
          <p:cNvSpPr/>
          <p:nvPr/>
        </p:nvSpPr>
        <p:spPr>
          <a:xfrm>
            <a:off x="7238880" y="525780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x + 8 = 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7467480" y="5562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x  = 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7010280" y="53352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(4, -1, 2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6:25:10Z</dcterms:created>
  <dc:creator>Sys Admin</dc:creator>
  <dc:description/>
  <dc:language>en-US</dc:language>
  <cp:lastModifiedBy>Admin</cp:lastModifiedBy>
  <dcterms:modified xsi:type="dcterms:W3CDTF">2011-11-02T22:59:44Z</dcterms:modified>
  <cp:revision>24</cp:revision>
  <dc:subject/>
  <dc:title>Solving System of Equations with 3 Variables</dc:title>
</cp:coreProperties>
</file>